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8D9-285B-4EBA-86D9-5DF44673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7B0-EF37-4D43-ABEB-601124BB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B3F08-FC20-48FF-9B02-E805207E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45477-F96A-4CD8-911D-02833C55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A2763-3F4F-4F98-ABA7-7F0795C9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C4AF2-6ED0-4903-9FCE-C8F68BA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D2408-AEBE-4A77-8FE1-466DFE3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93DEB-D3DF-4F36-BB27-9629C720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DF514-2A29-441A-BFFD-C29316DA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9CB5E-32AA-4A04-81CA-9F0C8837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A78B5-60EA-4C65-B665-5D1CD71D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37B4E-CC61-423B-BD86-1FABB5CC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1D6-7450-4126-BDF0-F2D10F01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8B0AF-DB13-4071-8EB2-1CA4CD37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8AE92-69AF-46C2-8C8A-C4440A10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A7F5F-30B7-44F4-8035-B4A5BB10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38B51-844C-4376-A780-6F32F78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2ECBE-C004-465F-A35D-CF32AB6A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1487D-54A5-46F1-9C4A-49B1040C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D4113-A7D9-4D1B-807B-BB6E1FAE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64621-E5D9-4C15-AB35-9594DA9B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645E0-0B3E-4230-8652-040BF20A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41A2F-3D84-452A-8A33-65CE2CE7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9B4-C1C5-48A0-97B0-49F98DED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C0ADB-C2C9-4203-9EF8-66EA75E7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6C804-F884-4E65-A957-BCDCE12C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43D8A-4035-4C92-9341-6798831D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DF2E1-D7E5-4469-A9BF-49C884B5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BA113-3ADB-4DA6-BA90-9B0334D5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CF239-033C-4FD7-8DFD-79AC8B46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601CF-3913-479B-8C9E-84BD76DE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F0EEB-0E3D-4A67-A1F1-6440970A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D9A5A-CBAB-416C-B269-BAD2BCDC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E68FD-98A1-4166-B684-A8FA90EA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5857-BF84-42AF-AA11-8E11FC9B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FABCD-3E9E-41D7-A820-EEA50E25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09ECB-3443-4B07-8151-51788779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CB71E-9B5A-418E-83FA-2269A0FF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3C8B1-7F7D-446A-86B3-496BD394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FA481-83A7-464E-AE23-E45A46E3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91960-1D03-42B4-8164-576ABBC1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5090F-8338-4535-BFE5-A628899D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8EFC9-0056-4837-8692-4E93A396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53EE1-82B5-4CA5-98E1-E2251FB8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29ABC-7882-4699-837C-794AD42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ABBE-A4F1-438E-B1C7-56F44EA8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EC290-7709-403D-816A-E4F1F685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5446A-A913-44E1-8DE1-CAE974B4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457A4-F769-44B8-9CB9-D0B073F7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C98E1-FD92-4BF4-AB4D-063DEB9F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E310D-D2C8-4F1C-886B-9B3CFA0A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5EAF2-F2DA-49D5-AA0A-405F5CFB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B6B0B-02A9-4CC7-B60C-AA4D9813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7FD37-0A19-4CBE-A9EB-AB2FBF65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37355-28AD-4FC0-8460-1CA14498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3322D-B544-4C1B-93EE-76EA5D2F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3EDA-E213-4B8C-977B-B03F7699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86F2F-3592-4986-ADC5-98D10475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CDF52-4F34-460B-B010-E7995E39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F6BB0-B240-48E8-89F5-80270FE3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A3D24-BC9C-4368-985B-5953F545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287EF-8CEB-4E66-A663-5C50D5C6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B08D3-2763-4C54-94F1-360FEE23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D12AD-8E06-4061-8FA2-A1159F24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8E08E-6D56-48F0-A733-CDBC4640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A68E8-9350-43F2-8627-19403C37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3A677-09D4-46D0-A1C3-E2A9EFBB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3D74-57D7-4496-B3B3-49D3508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1E437-E4CA-4F7A-837F-4725C503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5DF10-7C82-4707-87E2-A3534484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1EDCD-D863-418C-92BF-7A6EF040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39C00-885B-4307-8D3F-C422BD68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C0235-73C7-4831-B2EE-22F00682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FC066-DB39-4FA9-8CC4-49B3511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A9B13-6C99-4358-A827-2D577464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0C17F-F95A-4AA4-9003-513AB474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84C59-E1B4-43BD-8BAA-80762FDB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3DCBC-245E-456E-89B3-750D2C94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29F9-DB9F-4997-AE63-966408C1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1B654-29E6-4777-B41E-6B9652EF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BF599-2973-4C23-A945-6DB72A6B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D802F-3D56-4488-8172-37117F12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12DD7-C717-4323-A8BC-E312B506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4B9F4-0386-43FE-A810-45829E1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6EA92-4EDC-4C52-B345-C384FC1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7E4E3-9BE4-46B2-A407-633406B3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50760-B1E8-4F6A-8B1C-70EBC9A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1A4B8-8857-41EC-B527-73D3E848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D87A7-DADE-4C12-907B-DEDF2FFB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5F8E-1552-4189-A080-08A929F0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97B48-CA14-4F9B-B745-384C051D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004FE-8965-42CE-A120-24DB544C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4EF9A-F37E-4CDD-B66B-4A4827BD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DB199-1A0B-4B73-9D44-AFCEBE83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FE221-2327-432B-8391-3141D4FC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CE8F8-2FC0-4297-9398-420FA0E0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03BEA-4DDD-4A6C-9317-808C2578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50128-7890-4787-A264-B9DFAA1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5DAC8-907F-46F2-8B93-DB5AE441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208E9-749B-4AA5-B51E-5F3B17A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AA2B-C0FF-4DDB-A0DE-676146A1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C8EF5-76B5-4C2B-A9F7-7D4795BE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A967C-82D9-4B17-9497-F7B3D057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938CB-3F64-43E5-9757-FE2B5949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970F2-9A11-4226-8FB9-90E6625E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55439-D767-4BFE-9115-B9586B70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B882D-B5B2-4FB5-9214-1716ACDC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5B276C-8518-44E2-BC7C-34BDDD85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327E5-45FE-4E20-A5A7-92B8DB97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C4D5A-309A-438E-8879-225F3C62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02B0D-0B02-40F2-AEB3-40197500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EE8-F563-4FE8-B375-5E2B0800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667F-9B3F-4069-A69B-F682AC9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1CB2A-FDE4-46FD-9DDD-DBE55E37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AAF8D-E3FE-478E-A392-044F8F1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458E0-EDDE-49D6-88B9-81EF756D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4BDDA-3ED2-41C8-B562-56EA67F9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84F58-C23F-44B4-AFDC-28C59477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47787-D740-49E1-BB68-DC0EE66D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6B33A-A6CE-457D-9897-7502E5CE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DF4A0-35FB-4737-B8ED-23817E0E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3504F-8295-4B56-97C5-A4EBDBA0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D71A3-0A76-419E-AC3A-9A6C3C63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C2E0-3CD6-442B-A06B-6181C09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C182BA-7EEC-4954-A054-BD44B824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A4BF3-3CE2-4287-ACC4-2252E373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9361FE-435E-490B-B51E-BBA3F92F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B447A-AB8F-426C-B617-2B13831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47D14-DE99-4E41-87E8-A50E0AAF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09CE7-4A83-40DB-AC71-4A61A060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911AD-78F1-44E8-B883-63480B0C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505CC-9F2D-471A-BCCF-483FD24D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FD583-BD71-437E-891F-EF975A13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E89DD-CFFC-40A7-93FF-4A3893AF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E222-39AD-4046-825A-7A56A445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3F9A6-5B3C-4DEE-B459-2377BE75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BDDA0-5385-406A-93EB-629A59D6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80DCB-D730-4603-A6B9-AABA2C1D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828C76-143C-4624-BB63-2BE33F61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ACE35-E256-40B1-BEB5-1A299593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F5A1F-73A5-41AD-9022-D4ECADE7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56A8B-1923-4D07-8B4A-6656E442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DE2D7-CE19-441C-B501-137B0013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CC360-01DC-43E8-96F5-088F6506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1CC4CD-F34D-451A-AFD7-7BE30106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A4A1-7579-4B12-A12B-23427EB6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11EF1-E0FF-4B4C-9F9A-0D3309E0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417E0-3BE2-4AE7-895F-6A0A48A9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DA462F-EC76-4D85-840D-CFB9251F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05002-9279-4D04-8226-0F56FB6A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33638-EEB2-4F48-BA10-80FCA2A7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A33CF-01E6-4AB7-98FF-1C66ABB4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797D3-D58B-4971-A1C1-C477EE62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99CE0B-B4DF-4BCB-B874-043BB9DE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C35E94-C133-4979-A15E-A2B17D2F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046E7B-F967-4571-95AC-9E676A33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4D2A-C392-4C9B-B0E7-3F156600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50771-5255-4D4E-A9CD-4C8879D4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96FF1-F440-48BB-B283-B4EC520E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368960-3223-45BA-BE2F-AA1EA4E4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0CF463-958A-40A6-9BC6-F8DCBF84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7D991-09CF-4068-9605-540B6DBD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808550-60E9-4D89-9704-4CA1E70C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66019-904F-4534-8267-5EB11F16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7CB555-D9B4-4185-B106-5EE87CC2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B818D4-7AE9-425F-86A5-55518808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2609D-10F3-4A11-A9E0-59156283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1CEC-2DA5-4013-9211-89190D21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16EC14-6379-4E3B-8415-E4E66FAF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A71F03-E629-45D1-90C7-3DC794D0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B09F5F-5C4C-4FED-B176-75318DAA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C2FE-7359-4B1C-8324-5E3943D3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4ADB-D91C-4834-9A93-F434E13B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A853-CE38-4419-81CC-785FD0FC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4CF5-E903-44BB-B3CE-2E6A6213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A57-C60F-4E4A-8C10-10E27C17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D927-D948-4B5E-91A0-3956518D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8852-535B-421D-A278-6A4C225A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6153-7F12-4739-A851-EA5630A3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DFBF-F1D5-4D8B-876D-73C8D01A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1568-99ED-4D6D-B2CA-D353FFD2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D27B-8F0E-44D7-971C-1C4E2F87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67D0-A224-4FFD-BE17-1CF39BE9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5697B-0DF9-4BA6-A157-DE4EBD32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A05D9-CCE0-44ED-B0D7-F8C16CE6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24B7-A961-4B36-9671-48E1796D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27D-3256-4CD4-A4E8-15018B3B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5AB66-FC95-4D8F-B1FD-15C186FF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F4AD-5B18-4FB9-8D70-295869F8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1712-8143-4D17-A25B-DF583E8E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6FFF-0ED2-4857-8A1C-21588EE3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1419D-E838-4E51-92FE-6EA64E1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FB32-4B26-4E98-B223-1BCF18AA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4D28E-0431-4FAE-9BA8-539F7B81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D82A5-3003-4E71-B49F-1927FCF1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80CDA-4567-4C02-848A-5B0E4CD7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24D7-9C77-4F9D-AC2A-7C0660F9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EFC-A2A1-483F-B04B-9C5D48A8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90B55-D18C-482A-8C18-0E1F0185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352B-22D4-4436-BE84-370CD20E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F3A37-DCFA-4F82-B0C8-4E1B497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A8996-FFF5-4907-A113-EC710AE6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C85D8-D29A-4675-B8FC-F7DC54C3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E98F-8ABE-49D2-A88B-00AEF9B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D457A-1773-4353-84A6-E08EA8C7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975EF-5EF6-4410-94E5-99CF4DD6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1160-DF86-4AAA-81F4-035A3E88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95683-BC91-4EBB-8008-8D69D42F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DD5-F39F-4A5F-BD14-A712FD44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AED86-0C84-4FE3-92A4-517500F8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FADD-F4C5-447E-BC5A-ED88E999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53E46-D994-4659-AFC0-FDB34428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4B87C-E4D8-4BBE-A1E9-3D8B2843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085EB-2904-450F-B4DC-D07D2B17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80CBB-7ACC-427B-B36F-997E0D51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FCFF-7985-40A6-A528-B3A7D497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DA55F-4C03-4755-A9DA-8F9F0FEF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7F6D1-126F-491F-9BBD-B4651ABB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E2C6-A2EB-4AA7-A8AD-B62F8E22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733-547B-4E9F-8F6D-60E0B949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CFBB0-8A09-4D5A-9AE6-EC625029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E3810-6CEE-4C3C-A6D4-07525BC5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315B-F73F-4791-9D5F-C1295946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15356-1C7A-4C0A-9E98-C19AFCE1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985BD-7165-409C-B47D-7904A84C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B0D51-9954-4ED6-9AC4-6BA1B336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6363B-9845-4CD7-92F8-18F8E6AF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B27B4-26BF-4334-A4D0-193E6EE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91625-B26F-4CC9-91A3-3E72546A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8B893-BBA3-403D-B784-5B050A0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EDE-CFF6-4BC3-AED1-A746052F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91C6F-DBD9-4707-AC24-E1BC1338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4922F-2E2D-48A6-8729-D6EF86B6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FF850-3845-4ABD-A642-9CE72196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992BF-4301-4E9A-A5C2-53BCA2BC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C971-F5BA-4108-AB29-665B8803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EFBFA-553B-4458-BA3C-30A51CFF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694AE-37C9-4FAF-91E4-623AB5CE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5144C-042E-4A5A-B110-1473ACDA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8431D-0F72-415F-B9D5-5E4E2D82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C4166-2D90-4842-B773-A8B4F9EE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C79-FCB7-44BB-8BA3-C1935ABD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1D543-D419-4885-9962-D48E1D8E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4364A-6627-4CE4-8EC9-A926B1BA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1B64A-F1AE-451C-BC0C-F27F061F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C19A6-1251-4E2E-ADB9-271EF01D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B9335-018B-41B2-8537-C5EE0037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A4462-2AC8-4D74-90D6-922BD76E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375DE-725A-47F0-8C46-BE02B435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899D0-D138-48E4-847A-546FCE16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910CA-4A04-4794-B982-68EEF0DC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23DB1-4889-44EE-B09D-B845698F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EC19-DC84-41D1-AB73-043FDAAAB2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CC62-8CD9-493E-B977-C4E71B184C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7A65-0AB9-40BA-8061-E99DAF7196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E18C-3375-4048-991A-4C89A4F363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FCE6-B7C7-40DA-8587-28A39B49C0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DCDB-9F45-4FB4-845F-A1EA8D3C3E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FFF9-A177-443F-A007-B924381C1C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74B1-4DC4-481F-B5BD-6246EE3E67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9EFF-F7CA-4C33-8E3A-C04710334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276E-84A5-4A36-A635-557126273D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2DC6-68B3-4892-AE29-C57BC72510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481E-3F25-4EF3-A29B-9FE78611F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A6A8-8C73-4889-A76A-7B2ED9CCE0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F221-73C0-4212-A0F3-6EF8F490FD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2615-7843-419D-8520-BFE4B45310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233B-E3C6-45A8-B4FD-CEEAD81246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FFE8-AC72-49EE-A932-FCA329E0C9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CC5D-859F-4C84-8623-1B0BF86CD6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4B45-253A-405F-9B3D-42D57F73E5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2B44-1EE2-484B-8EA3-808BAC0B89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F569-ADCF-4B18-BF66-5C9469118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BCDD-2716-41AC-86B1-7892296F32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F3FE-B664-4F2C-85FD-F8A440CF04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0381-028B-48E4-A02B-46C1A96BA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EE39-2E8E-4C8E-804A-2A90488814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4A01-094E-4F4F-9DFD-12A7C28BA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4256-D0AB-40F9-BE7D-85A10BB10A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8E84-8B17-4B55-92F0-1285B14BE1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D7D6-84F8-41D5-A485-651012C7A2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6890-109F-412F-8F14-26DCF5958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9954-306E-4A2B-90D6-C4FD953723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2969-7EB1-4DDC-AC48-E06B2D2B7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13E-34DA-491F-8BD2-D5B95EE648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07DC-2C0E-4DEE-8D15-4CEC162A29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8C74-33B5-4A33-9C1E-2D9A56DFC7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4C72-11B3-4341-A16F-CD5BB24E93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A88C-E685-4A3F-91D2-CCE0273FB9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D099-42D1-4849-8CC7-A91A851831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439A-2B13-49DA-B361-95C6C9F833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C8F7-C8A1-42A2-8818-FB52CE47B7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28920" y="3209760"/>
            <a:ext cx="42861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7120" y="906480"/>
            <a:ext cx="8429760" cy="5114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90760" y="1469880"/>
            <a:ext cx="76176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76212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020000" y="148428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692360" y="1916280"/>
            <a:ext cx="76176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995640" y="1916280"/>
            <a:ext cx="7621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020000" y="1916280"/>
            <a:ext cx="7617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562040" y="2852640"/>
            <a:ext cx="41760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780000" y="2852640"/>
            <a:ext cx="417240" cy="319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940360" y="2852640"/>
            <a:ext cx="417600" cy="319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8101080" y="283860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1547640" y="328464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765600" y="328464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5925960" y="328464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8086680" y="327024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826920" y="5127480"/>
            <a:ext cx="129708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26920" y="5632560"/>
            <a:ext cx="129708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3924360" y="5141880"/>
            <a:ext cx="129708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3924360" y="5646600"/>
            <a:ext cx="1297080" cy="319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6948360" y="5127480"/>
            <a:ext cx="1297080" cy="31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6948360" y="5632560"/>
            <a:ext cx="1297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9410" descr=""/>
          <p:cNvPicPr/>
          <p:nvPr/>
        </p:nvPicPr>
        <p:blipFill>
          <a:blip r:embed="rId1"/>
          <a:stretch/>
        </p:blipFill>
        <p:spPr>
          <a:xfrm>
            <a:off x="228600" y="592200"/>
            <a:ext cx="8686800" cy="60768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539640" y="5848200"/>
            <a:ext cx="3024360" cy="3193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9412" descr=""/>
          <p:cNvPicPr/>
          <p:nvPr/>
        </p:nvPicPr>
        <p:blipFill>
          <a:blip r:embed="rId3"/>
          <a:stretch/>
        </p:blipFill>
        <p:spPr>
          <a:xfrm>
            <a:off x="841320" y="2387520"/>
            <a:ext cx="2087640" cy="4366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3002040" y="2435400"/>
            <a:ext cx="27468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9414" descr=""/>
          <p:cNvPicPr/>
          <p:nvPr/>
        </p:nvPicPr>
        <p:blipFill>
          <a:blip r:embed="rId5"/>
          <a:stretch/>
        </p:blipFill>
        <p:spPr>
          <a:xfrm>
            <a:off x="855720" y="3040200"/>
            <a:ext cx="2087640" cy="436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3016080" y="3087720"/>
            <a:ext cx="27468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9416" descr=""/>
          <p:cNvPicPr/>
          <p:nvPr/>
        </p:nvPicPr>
        <p:blipFill>
          <a:blip r:embed="rId7"/>
          <a:stretch/>
        </p:blipFill>
        <p:spPr>
          <a:xfrm>
            <a:off x="4802040" y="2387520"/>
            <a:ext cx="2087640" cy="4366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8"/>
          <a:stretch/>
        </p:blipFill>
        <p:spPr>
          <a:xfrm>
            <a:off x="6962760" y="2435400"/>
            <a:ext cx="27468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9418" descr=""/>
          <p:cNvPicPr/>
          <p:nvPr/>
        </p:nvPicPr>
        <p:blipFill>
          <a:blip r:embed="rId9"/>
          <a:stretch/>
        </p:blipFill>
        <p:spPr>
          <a:xfrm>
            <a:off x="4802040" y="3040200"/>
            <a:ext cx="2087640" cy="436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0"/>
          <a:stretch/>
        </p:blipFill>
        <p:spPr>
          <a:xfrm>
            <a:off x="6962760" y="3087720"/>
            <a:ext cx="274680" cy="31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1"/>
          <a:stretch/>
        </p:blipFill>
        <p:spPr>
          <a:xfrm>
            <a:off x="539640" y="6365880"/>
            <a:ext cx="3024360" cy="3189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2"/>
          <a:stretch/>
        </p:blipFill>
        <p:spPr>
          <a:xfrm>
            <a:off x="8317080" y="3544920"/>
            <a:ext cx="274320" cy="318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3"/>
          <a:stretch/>
        </p:blipFill>
        <p:spPr>
          <a:xfrm>
            <a:off x="8317080" y="3933720"/>
            <a:ext cx="274320" cy="3193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4"/>
          <a:stretch/>
        </p:blipFill>
        <p:spPr>
          <a:xfrm>
            <a:off x="8317080" y="4292640"/>
            <a:ext cx="274320" cy="3189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5"/>
          <a:stretch/>
        </p:blipFill>
        <p:spPr>
          <a:xfrm>
            <a:off x="8317080" y="4681440"/>
            <a:ext cx="274320" cy="319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6"/>
          <a:stretch/>
        </p:blipFill>
        <p:spPr>
          <a:xfrm>
            <a:off x="8604360" y="5084640"/>
            <a:ext cx="274680" cy="319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7"/>
          <a:stretch/>
        </p:blipFill>
        <p:spPr>
          <a:xfrm>
            <a:off x="8604360" y="5445000"/>
            <a:ext cx="274680" cy="3193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8"/>
          <a:stretch/>
        </p:blipFill>
        <p:spPr>
          <a:xfrm>
            <a:off x="8604360" y="5805360"/>
            <a:ext cx="274680" cy="319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9"/>
          <a:stretch/>
        </p:blipFill>
        <p:spPr>
          <a:xfrm>
            <a:off x="8589960" y="6237360"/>
            <a:ext cx="2746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9:3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